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DE3-02BE-4F5A-A766-2DA6F797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4AC-D942-4B7D-B649-D648457F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74E-CD89-4B98-A263-D48F261B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142-A237-4B31-975B-44F427F3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476-4752-4AC1-8968-C827AB3A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A9FB-1E72-4E19-B57C-BE93003F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549-9B94-4CB2-8A4F-9BA467D2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625-1A6C-43AF-BFB5-7635259F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A2A-9852-437C-B9F8-B7D90CA9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E93-DA12-4105-9B0B-EB5C18C2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A41-F957-4126-89F5-26AD0A8C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F88-9B07-4845-8DE6-5B34A629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8B7B-0CD2-46BC-8089-EC7FA353E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us.ucf.edu/shornik/acg5405/Documents/IBM_Demo_Lotus_Domino_Document_Manager-1-Jan05.exe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di-service.com/page5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di-service.com/page5.html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523880"/>
            <a:ext cx="4114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ff"/>
                </a:solidFill>
                <a:latin typeface="Times New Roman"/>
              </a:rPr>
              <a:t>Electron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ff"/>
                </a:solidFill>
                <a:latin typeface="Times New Roman"/>
              </a:rPr>
              <a:t>Busi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ff"/>
                </a:solidFill>
                <a:latin typeface="Times New Roman"/>
              </a:rPr>
              <a:t>(E-Business) Syst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44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34F-715C-4388-AB96-2366E928A4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nline Transaction Entry (OLTE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ing business events at time and place the business event occ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input device used to enter data at source at time of business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ing Step 1 &amp; 2 of Automated Manu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Source document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data is retrieved from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documents are printed by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information in accumulated on tape or di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F0C-451C-44D3-8E88-16F6B2154D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nline Transaction Entry (Batch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04760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F40-047D-49F1-AC1A-66FCA0A3A3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468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nline Real-time (OLRT)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2280" y="1752120"/>
            <a:ext cx="7759440" cy="44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ub-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event occurs and is reco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Mast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ediat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Reports and Support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periodically or on an as needed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queries to generate unique reports for key decisions on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C1E-B585-4A45-A18A-56D49EC886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Online real-time processing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90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F30-3E32-47B2-ADF5-3E762D8CC8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ethods of Conducting E-Busines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communication of non-Standardized messages via communicatio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human 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Documen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and storage of document images instead of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Data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-to-computer exchange of business data in structured formats that allow direct processing of those electronic documents by the receiving compute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7B5-002A-4FB7-B217-DD6DD8D6FF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lectronic Document Managemen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Storage and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Event Dat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low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documents to appropriate people and appropriate tim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the flow of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47C-67B6-496C-B2B2-0D0FAF1762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#9 AICPA Technology 2006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less Digital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of capturing, indexing, storing, retrieving, searching, and managing documents electronically including databas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management then brings structure and control to this information, allowing organizations to harness the intellectual capital contained in the underlying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3F0-86F3-438E-B5F5-C3790BB275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ocument Mgmt Demo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otus Notes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CE3-5A3F-4741-922A-015B4E3965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lectronic Data Interchange (EDI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-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ANSI 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and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44C-F442-4E04-838B-3B28253915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29040" y="91404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DI Componen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000" y="0"/>
            <a:ext cx="6453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629400" y="2057400"/>
            <a:ext cx="2514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n originating application prepares an electronic business document, such as a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(P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 At the destination organization, an application processes the business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519-0BF6-4C43-B9E7-62735CFECE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51818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eciate the possible changes to organizational processes that occur when e-business int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major approaches to transfer of electronic data during business events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 the complexities that are introduced as electronic document management moves us steadily toward the paperless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complexities surrounding EDI that are introduced when linking two different organizations’ computer systems for joint business event data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eciate the challenges faced by organizations when they pursue direct business links with customers via the Internet or oth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eciate the business advantages gained through effective use of electronic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1981080"/>
            <a:ext cx="2971800" cy="3276720"/>
          </a:xfrm>
          <a:prstGeom prst="flowChartMagneticDisk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3048120"/>
            <a:ext cx="2819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-Busi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29040" y="151920"/>
            <a:ext cx="25146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DI Componen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4000" y="0"/>
            <a:ext cx="6453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629400" y="1523880"/>
            <a:ext cx="2514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and 6. An application’s electronic business document must be translated from standard message  format to the structured 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that will be recognized by the receiving compu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8AE-92ED-489B-B49F-97A33FFDD6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883160" y="19080"/>
            <a:ext cx="53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Data Interchange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9EB-4DBD-420F-B6F6-CB7468450B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I X12 Document Typ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DI Service Bur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1A9D-66B5-4591-AF3F-B9B48251AC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29040" y="60912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DI Componen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000" y="0"/>
            <a:ext cx="6453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629400" y="1828800"/>
            <a:ext cx="2514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and 5. Establish a method to communicate electronic message. EDI service bureaus or the Internet are may be used, saving time and money over other metho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C67-9BB6-4FDD-9D90-97C0CC7B61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29040" y="685440"/>
            <a:ext cx="2514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DI Componen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000" y="0"/>
            <a:ext cx="6453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629400" y="2209680"/>
            <a:ext cx="2514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Rather than connect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ing partner, an organization can use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N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nnect t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it wants, leave its outgoing messages and, at the same time, pick up incoming messages from its “mailbox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89F1-915E-44D9-9185-C4642C64D7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DI Process Chang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reduction in human interaction (Purchaser &amp; Salespeo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ion of erroneou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al Tim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s organization to change processes as a result of instantaneous information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rocess Re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642-AC89-412F-8DEA-DF1A355F10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trol Consider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 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e EDI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rather then Detect errors i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changes &amp; Security ov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vs. direct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 compromise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B10-0E08-4010-8133-A7322DECDB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trols Neede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ransactions are sent/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ransactions are recorded only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 of data (sent/received/transl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ate Se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s are not intercepted/al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D66-A496-445E-86FE-33F6B13BBF5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trol Pla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has built in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, Counts, Control #’s, Headers/Fo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eness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Au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my Data is t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bedded Audit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rts auditor to suspec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mmm, sounds like a use of Complex Event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B78E-BC04-44B7-A51A-D04CDEF90F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ternet Commerc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-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of Busines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and semi-struc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possible replacement of E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3F0-9204-467B-A080-95AACD1756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8400" y="164880"/>
            <a:ext cx="774720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lectronic Busines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45240" cy="395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ally exchanging information and linking business processes, individuals and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s completed more quickly, more efficiently, and more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paper trail (eventu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BA5-1528-4640-98D4-7B27439FDA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XM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ble Markup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s sharing of data acros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8E5-4274-4B38-93F7-322D7E299B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XML Exampl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cipe name="bread" prep_time="5 mins" cook_time="3 hour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itle&gt;Basic bread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gredient amount="3" unit="cups"&gt;Flour&lt;/ingredi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gredient amount="0.25" unit="ounce"&gt;Yeast&lt;/ingredi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gredient amount="1.5" unit="cups“ state="warm"&gt;Water&lt;/ingredi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gredient amount="1" unit="teaspoon"&gt;Salt&lt;/ingredient&gt; &lt;instructio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ep&gt;Mix all ingredients together, and knead thoroughly.&lt;/ste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ep&gt;Cover with a cloth, and leave for one hour in warm room.&lt;/ste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ep&gt;Knead again, place in a tin, and then bake in the oven.&lt;/ste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instructio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recip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5D7-F399-450B-955C-7411A95123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ypical Internet Conn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553080" cy="6086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29400" y="990720"/>
            <a:ext cx="2514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ent/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2286000"/>
            <a:ext cx="251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and 7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connects to vendor in client-server configuration. Customer is Client (secure), Vendor is Server (receive and translate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146-2E84-4874-8D97-7B28DCD85EC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ypical Internet Conn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553080" cy="608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629400" y="990720"/>
            <a:ext cx="2514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twork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2286000"/>
            <a:ext cx="2514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and 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to Internet through direct connection or service 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E8B-6147-4B62-9A57-EA77C7B733F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ypical Internet Conn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553080" cy="6086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629400" y="990720"/>
            <a:ext cx="2514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ranc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2286000"/>
            <a:ext cx="25146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and 6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rance services provide limited assurance that web site reliable and sec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Trust; Veri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414-1244-40B2-80B2-F3EAD4FCE7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ypical Internet Conn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553080" cy="6086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629400" y="990720"/>
            <a:ext cx="2514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ernet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29400" y="228600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net (public network) E-business is open to all Revolutionizes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98A-3E21-44FE-A677-777B3E0E175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-busines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electronic business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s back-office processes and/or front office processes of two or more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ion of sales staff, normally intermediary between two parties to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a good id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costs, bu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 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ing price effici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at which purchasing agents get access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E70-B63C-4CD7-B6FA-4CB5AEE651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cording Business Events (Accounting for Events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(E-busi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business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ly Increased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ly Increased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870-5B05-42D3-A6D5-0DFFD995EC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odes of Accounting for Event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between event and recording that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ion of multiple business events over a period of time for later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time the master data are up to date is right after the processing has been compl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oon as the next business event occurs, the master data are no longer up to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or no delay occurs business event and recording that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181-D3A2-404E-AB9A-6BEEEC0422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ethods of Accounting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ed Manu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Transaction Entry (OL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al-Time (OL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5B5-37CE-452B-B6AF-B7DACD24D8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utomated Manual System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Sub-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Event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ed on Sourc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usiness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 Processed and Input by data-entry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Data Store (Sales, Purchase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tore =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Mas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748-D823-4F60-AC06-E78EF24255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utomated Equivalent to a Manual Syste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309680"/>
            <a:ext cx="8686800" cy="501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AAF-A7EE-4684-A9CD-9082F93E77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urt Westbrook</dc:creator>
  <dc:description/>
  <dc:language>en-US</dc:language>
  <cp:lastModifiedBy>College of Business Administration</cp:lastModifiedBy>
  <cp:lastPrinted>1998-07-30T21:51:59Z</cp:lastPrinted>
  <dcterms:modified xsi:type="dcterms:W3CDTF">2007-05-22T14:59:54Z</dcterms:modified>
  <cp:revision>38</cp:revision>
  <dc:subject/>
  <dc:title>Chapter 3</dc:title>
</cp:coreProperties>
</file>